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CFB-499C-4990-8D82-97E3638F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FB3-3389-4AB9-B047-1CE6BD31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D89-345A-4B94-8DEC-B1F7948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BCB-7556-42F1-A939-6F19B5DF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430-6B57-46DD-B22D-0C3A910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BCA-0ED7-4334-8780-C301D73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069-A955-4FDC-9D12-7C28265F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B0F-CFFA-4688-A3D1-C07CBEC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656-034F-4E2B-B7DE-725A715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23B-F664-45F1-9FE1-0CC1815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B52-EF9F-412D-989C-7A44784F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D0E-07EA-42B6-A74A-6D4EAB5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28B-24F4-40CC-8497-E44C32E3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8"/>
          <p:cNvSpPr txBox="1"/>
          <p:nvPr/>
        </p:nvSpPr>
        <p:spPr>
          <a:xfrm>
            <a:off x="1371600" y="990720"/>
            <a:ext cx="6400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uper Synonyms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457200" y="4952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reated by Mrs.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0" descr="j0078717"/>
          <p:cNvPicPr/>
          <p:nvPr/>
        </p:nvPicPr>
        <p:blipFill>
          <a:blip r:embed="rId1"/>
          <a:stretch/>
        </p:blipFill>
        <p:spPr>
          <a:xfrm>
            <a:off x="6858000" y="3352680"/>
            <a:ext cx="11779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380880"/>
            <a:ext cx="6781680" cy="2104920"/>
          </a:xfrm>
          <a:prstGeom prst="rect">
            <a:avLst/>
          </a:prstGeom>
          <a:solidFill>
            <a:srgbClr val="fae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Synonyms are words that have the same meaning.  For example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219320" y="2743200"/>
            <a:ext cx="6324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happy and g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286000" y="3733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over and 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286000" y="4724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alike and 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09680" y="5715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sad and 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uwaqvvx[1]"/>
          <p:cNvPicPr/>
          <p:nvPr/>
        </p:nvPicPr>
        <p:blipFill>
          <a:blip r:embed="rId1"/>
          <a:stretch/>
        </p:blipFill>
        <p:spPr>
          <a:xfrm rot="1469400">
            <a:off x="7009920" y="838080"/>
            <a:ext cx="159876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990720" y="5335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Now you try some on your   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2362320"/>
            <a:ext cx="876312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begin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It is time to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begin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our ma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1600" y="4724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Did you say           </a:t>
            </a: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?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Your right!  GREAT JOB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191120" y="457200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1440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Let’s try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981080"/>
            <a:ext cx="91440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purchase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e will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purchase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a bike at Wal-M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2120" y="51055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Did you say           ?  Way to go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429000" y="49528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ahoma"/>
              </a:rPr>
              <a:t>bu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09480" y="685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Let’s do one m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4920" y="1905120"/>
            <a:ext cx="883908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toss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The child will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toss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the base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0880" y="4343400"/>
            <a:ext cx="906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The correct answer is               !  Did you get it right?  Excellent wor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562720" y="419112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thr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76212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ff"/>
                </a:solidFill>
                <a:latin typeface="Times New Roman"/>
              </a:rPr>
              <a:t>You are now a super synonyms star!   Congratulatio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j0232431"/>
          <p:cNvPicPr/>
          <p:nvPr/>
        </p:nvPicPr>
        <p:blipFill>
          <a:blip r:embed="rId1"/>
          <a:stretch/>
        </p:blipFill>
        <p:spPr>
          <a:xfrm>
            <a:off x="2743200" y="3809880"/>
            <a:ext cx="33526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6:33:32Z</dcterms:created>
  <dc:creator>blanlab</dc:creator>
  <dc:description/>
  <dc:language>en-US</dc:language>
  <cp:lastModifiedBy>teacher</cp:lastModifiedBy>
  <dcterms:modified xsi:type="dcterms:W3CDTF">2010-12-06T02:47:42Z</dcterms:modified>
  <cp:revision>5</cp:revision>
  <dc:subject/>
  <dc:title>Slide 1</dc:title>
</cp:coreProperties>
</file>